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13.png" ContentType="image/png"/>
  <Override PartName="/ppt/media/image12.jpeg" ContentType="image/jpeg"/>
  <Override PartName="/ppt/media/image36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EB1D-B3EA-4E4E-87A6-EC3ABDEF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DB2E-D8D6-4EC3-9AF9-1A33022CC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1725-4CAB-48DF-924D-0CE22B1DF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00C8-52B8-4A7F-9CD0-636AE7209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7DE1-8709-4A0D-80A1-6C16D79A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A7D4-8ED2-43F2-9B9F-96FC4E707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8719-A3C1-4408-88AB-A12669D4B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59B6-8E48-42B8-A8F5-D42062C02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A7D9-4AB1-4D3F-85B8-053D1927B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8710-0EB9-444B-9E25-FEC7DA081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F913-C5F0-4A12-B64F-701432FAB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544A-512C-4B0E-BA1C-943EDFF7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DAAE-F66E-4817-8D3C-96DA4F85B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83F1-0DE4-4008-8061-9CD8F0CD3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23A8-D6F3-4465-84AC-2A573B42B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A093-0309-4623-8D89-EEEB65D7F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E39B-0290-45DC-9F6F-6705D4E76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C540-9B31-4AAB-82CE-4E85F6B2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2A0C-00A3-46B0-AF14-23A608D06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5B91-7B89-48A3-B85F-508AE8A6E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92D7-0947-4E20-8D8F-A1BAF860D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13BB-D3DA-437B-BF8B-E56DA06E8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1595-7D4D-451C-B8E9-E6DA76B1F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23B4-DD93-4B8E-B0AB-CAF3D05A2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5873-0901-495D-BBC1-E8C1F280D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5A16-1318-4FE9-B9B0-5FD69E853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22A0-A4A3-475C-BA9D-9C1404461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641C-C5C3-492C-BFB7-73EE4EFD9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2462-B6EE-4D64-9316-5F67DB1CC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0DE5-CE2C-440D-968B-2D713871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A09D-2C19-4686-A8A5-30943105A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B871-342A-4D20-AA56-7BB952337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2097-CBC4-4D9E-ADAF-BC881FEAE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4C10-1C04-49B7-AC58-EA5730DE9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4895-E76D-4334-B114-8311CA07D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B38-B82B-4FE4-9368-0AAC111A0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E9BA-017F-448B-9936-7EDE433BA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96D6-382E-48C1-8AF9-60C93BCDD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1261-C9F7-4340-A6B8-68F52C46B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87C0-69C4-454E-B867-DE7FBB0C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3BFB-8844-4A68-809E-838BE172C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59C9-9C59-4441-9E01-15BBAF88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3783-C14B-4EF8-90C8-A95FCD289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6172-4D9E-4368-B179-7D6B5EE8D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836C-0D17-4B3B-9B1C-CF09A582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A08A-CD09-4158-B79F-F8248B3F5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00F3-AAAF-42DC-8D08-EA24A533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5BF-4D30-44ED-8FCE-A55FBB68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B84-D70F-481C-BF0D-50645A02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510D-A8B5-4DBE-AB21-A6723D3F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1957-CE36-428D-806B-40E7EE60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CC38-C055-43FB-A899-335DE033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9573-4312-424B-862A-4CD0BDF4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16B-15C9-4A36-AC6F-54CDAAAD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446-65B3-4717-80BA-8FBDAB4B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ABC-F55C-4653-8239-EA0561B2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29A-9BF2-4E15-B949-CCD553CF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07DF-5134-475D-9670-6ACB1FB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81FE-76D0-4316-A05E-F082731E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E38-3680-40CA-A843-94944869A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76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</a:t>
            </a: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K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25E5-D79C-4499-AC15-C7D3BFDA061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ПРИМЕЊЕНА ХИРУРШКА АНАТОМИЈА ОРОФАЦИЈАЛНЕ РЕГИЈЕ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-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О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стеологија вилица, крвни судови лица и вилица, венски систем лица и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вилица, лимфни систем лица и вилица, мишићи орофацијалне региј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0" y="6424560"/>
            <a:ext cx="37749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495E-B873-4BEC-B50A-DD741C06F41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 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5950" t="6469" r="8013" b="6483"/>
          <a:stretch/>
        </p:blipFill>
        <p:spPr>
          <a:xfrm>
            <a:off x="2028960" y="1928880"/>
            <a:ext cx="469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0" y="6424560"/>
            <a:ext cx="3944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BF74-84EE-476B-9EE4-A7A24DCC4AF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rcRect l="8692" t="-916" r="9335" b="5291"/>
          <a:stretch/>
        </p:blipFill>
        <p:spPr>
          <a:xfrm>
            <a:off x="1803240" y="2041560"/>
            <a:ext cx="516096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0" y="6424560"/>
            <a:ext cx="39196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8D89-1F89-4D3E-8BD1-A5638C6A385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1"/>
          <a:srcRect l="10443" t="0" r="0" b="2426"/>
          <a:stretch/>
        </p:blipFill>
        <p:spPr>
          <a:xfrm>
            <a:off x="2443320" y="1906560"/>
            <a:ext cx="36986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0" y="6424560"/>
            <a:ext cx="3944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5908-388E-4B74-817A-059C146EC49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rcRect l="2323" t="1136" r="4133" b="1110"/>
          <a:stretch/>
        </p:blipFill>
        <p:spPr>
          <a:xfrm>
            <a:off x="5299200" y="1365120"/>
            <a:ext cx="3681360" cy="41832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3440" y="2681280"/>
            <a:ext cx="523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ртеријски крвоток лица и вилица потиче из </a:t>
            </a:r>
            <a:r>
              <a:rPr b="0" i="1" lang="sr-CS" sz="2000" spc="-1" strike="noStrike">
                <a:solidFill>
                  <a:srgbClr val="ff0000"/>
                </a:solidFill>
                <a:latin typeface="Palatino Linotype"/>
              </a:rPr>
              <a:t>а. 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carotis communis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носно из њених завршних грана 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a.carotis interna et extern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, кoje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стају у висини горње ивице тиреоидне хрскав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0" y="6424560"/>
            <a:ext cx="376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5340-42CD-42B4-835F-14FD3540B9F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99960" y="2205000"/>
            <a:ext cx="4795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Carotis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надбева крвљу мозак и чуло вида. Најзначајнија бочна грана је </a:t>
            </a:r>
            <a:r>
              <a:rPr b="0" i="1" lang="sr-CS" sz="2000" spc="-1" strike="noStrike">
                <a:solidFill>
                  <a:srgbClr val="ff0000"/>
                </a:solidFill>
                <a:latin typeface="Palatino Linotype"/>
              </a:rPr>
              <a:t>а.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ophtalmica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ја се завршава на корену носа као 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dorsalis nasi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анастомозира се са </a:t>
            </a:r>
            <a:r>
              <a:rPr b="0" i="1" lang="sr-CS" sz="2000" spc="-1" strike="noStrike">
                <a:solidFill>
                  <a:srgbClr val="ff0000"/>
                </a:solidFill>
                <a:latin typeface="Palatino Linotype"/>
              </a:rPr>
              <a:t>а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ngularis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што представља анастомозу између спољне и унутрашње артер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a.carotis interna.jpg"/>
          <p:cNvPicPr/>
          <p:nvPr/>
        </p:nvPicPr>
        <p:blipFill>
          <a:blip r:embed="rId1"/>
          <a:stretch/>
        </p:blipFill>
        <p:spPr>
          <a:xfrm>
            <a:off x="5124600" y="1690560"/>
            <a:ext cx="3784320" cy="39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0" y="6424560"/>
            <a:ext cx="3867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176A-3677-48CB-9199-20297864D13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Box 8"/>
          <p:cNvSpPr/>
          <p:nvPr/>
        </p:nvSpPr>
        <p:spPr>
          <a:xfrm>
            <a:off x="163440" y="2104920"/>
            <a:ext cx="476892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Carotis ex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скуларизује део врата и главу (осим мозга, ока и унутрашњег ува). Пружа се од горње ивице тиреоидне хрскавице до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рата доње вилиц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где даје своје завршне г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Content Placeholder 8" descr="220px-External_carotid_artery.png"/>
          <p:cNvPicPr/>
          <p:nvPr/>
        </p:nvPicPr>
        <p:blipFill>
          <a:blip r:embed="rId1"/>
          <a:stretch/>
        </p:blipFill>
        <p:spPr>
          <a:xfrm>
            <a:off x="4933800" y="2041560"/>
            <a:ext cx="362772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ate Placeholder 3"/>
          <p:cNvSpPr/>
          <p:nvPr/>
        </p:nvSpPr>
        <p:spPr>
          <a:xfrm>
            <a:off x="0" y="6424560"/>
            <a:ext cx="38275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AB3A-AD6E-44A6-89DF-9725A9D3F16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25600" y="1698480"/>
            <a:ext cx="6215040" cy="54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Бочне гране спољне каротидне а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ртер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thyroideа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a. lingu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Palatino Linotype"/>
              </a:rPr>
              <a:t>a. fac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pharyngea asce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occipi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auricularis pos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675320" y="2324160"/>
            <a:ext cx="42051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19CC-9B36-45B6-AAF0-AFF1AC55D4E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A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76280" y="1741320"/>
            <a:ext cx="819144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Lingu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скуларизује језик и подјезични преде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Бочне гр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r. suprahyoid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rr. dorsales li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Завршне г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а.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sublingualis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под уста, сублингвалну жлезду и френулу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profunda lingue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тело и врх је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3B0A-E3C5-4DEE-99CC-1EAE103A907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436680" y="1914480"/>
            <a:ext cx="5676840" cy="42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Faci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ња ивица мандибуле дели је на вратни део и део предела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ратни део има две лучне кривине, док се у области лица пружа косо навише, преко периоста мандибуле и напред према углу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oкa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завршавајући се као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а.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ngularis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image508"/>
          <p:cNvPicPr/>
          <p:nvPr/>
        </p:nvPicPr>
        <p:blipFill>
          <a:blip r:embed="rId1"/>
          <a:srcRect l="4321" t="-1219" r="13443" b="8680"/>
          <a:stretch/>
        </p:blipFill>
        <p:spPr>
          <a:xfrm>
            <a:off x="6338880" y="1703520"/>
            <a:ext cx="280512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0" y="6424560"/>
            <a:ext cx="38275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C043-D8BA-4999-8609-11E31215600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463680" y="1703520"/>
            <a:ext cx="79660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Faci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Бочне г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palatina asce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submen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rr. gland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labialis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labialis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ight Brace 7"/>
          <p:cNvSpPr/>
          <p:nvPr/>
        </p:nvSpPr>
        <p:spPr>
          <a:xfrm>
            <a:off x="2787480" y="3821040"/>
            <a:ext cx="201960" cy="500040"/>
          </a:xfrm>
          <a:custGeom>
            <a:avLst/>
            <a:gdLst>
              <a:gd name="textAreaLeft" fmla="*/ 0 w 201960"/>
              <a:gd name="textAreaRight" fmla="*/ 72720 w 201960"/>
              <a:gd name="textAreaTop" fmla="*/ 5040 h 500040"/>
              <a:gd name="textAreaBottom" fmla="*/ 49500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3114720" y="3870360"/>
            <a:ext cx="26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circulus arteriosis 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514440" y="4923000"/>
            <a:ext cx="824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ртерија лица се завршава као </a:t>
            </a: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а.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angularis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ја прави анастомозу са </a:t>
            </a: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а.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dorsalis nasi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40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9B3A-99C2-42A9-9891-CFDC482596E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76360" y="1841400"/>
            <a:ext cx="7891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Palatino Linotype"/>
              </a:rPr>
              <a:t>MAXILLA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  (</a:t>
            </a: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ГОРЊА ВИЛ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арна кост, састављена од тела  и 4 наставка: чеоног, јабучног, непчаног и алвеоларног помоћу којих се повезује са суседним костима лица и супротном горњом вилиц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C:\Users\Zoran\Downloads\anestezija\maxilla1.gif"/>
          <p:cNvPicPr/>
          <p:nvPr/>
        </p:nvPicPr>
        <p:blipFill>
          <a:blip r:embed="rId1"/>
          <a:stretch/>
        </p:blipFill>
        <p:spPr>
          <a:xfrm>
            <a:off x="1830240" y="3808440"/>
            <a:ext cx="554832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0" y="6424560"/>
            <a:ext cx="3852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D875-7304-4FDB-9D76-72449C4EBB5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0" name="Picture 11" descr="image510"/>
          <p:cNvPicPr/>
          <p:nvPr/>
        </p:nvPicPr>
        <p:blipFill>
          <a:blip r:embed="rId1"/>
          <a:srcRect l="7975" t="-1805" r="7351" b="0"/>
          <a:stretch/>
        </p:blipFill>
        <p:spPr>
          <a:xfrm>
            <a:off x="6062760" y="2141640"/>
            <a:ext cx="3081240" cy="32256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8"/>
          <p:cNvSpPr/>
          <p:nvPr/>
        </p:nvSpPr>
        <p:spPr>
          <a:xfrm>
            <a:off x="438120" y="1941480"/>
            <a:ext cx="55738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У висини врата мандибуле спољна каротидна артерија се рачва на две завршне г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400" spc="-1" strike="noStrike">
                <a:solidFill>
                  <a:srgbClr val="ff0000"/>
                </a:solidFill>
                <a:latin typeface="Palatino Linotype"/>
              </a:rPr>
              <a:t>a. maxil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a. temporalis superfici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0" y="6424560"/>
            <a:ext cx="376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E447-C986-43EA-921D-50B690F2745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A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" name="Picture 11" descr="image510"/>
          <p:cNvPicPr/>
          <p:nvPr/>
        </p:nvPicPr>
        <p:blipFill>
          <a:blip r:embed="rId1"/>
          <a:srcRect l="7975" t="-1805" r="7351" b="0"/>
          <a:stretch/>
        </p:blipFill>
        <p:spPr>
          <a:xfrm>
            <a:off x="6062760" y="2141640"/>
            <a:ext cx="3081240" cy="32256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8"/>
          <p:cNvSpPr/>
          <p:nvPr/>
        </p:nvSpPr>
        <p:spPr>
          <a:xfrm>
            <a:off x="431640" y="1623960"/>
            <a:ext cx="585648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Maxil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ача завршна грана од изузетног значаја с обзиром на регију коју снадбевља крвљу, као и на сложеност грађе и велики број грана које наста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874800" y="3943440"/>
            <a:ext cx="522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чиње у висини врата мандибуле и идући унутра и напред долази до сфенопалатинског отвора, где се завршава као сфенопалатинска артерија пролазећи највећим делом  кроз птеригопалатинску ја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0" y="6424560"/>
            <a:ext cx="38797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560D-162B-4679-9BFF-32095DA7774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3" name="Picture 11" descr="image510"/>
          <p:cNvPicPr/>
          <p:nvPr/>
        </p:nvPicPr>
        <p:blipFill>
          <a:blip r:embed="rId1"/>
          <a:srcRect l="7975" t="-1805" r="7351" b="0"/>
          <a:stretch/>
        </p:blipFill>
        <p:spPr>
          <a:xfrm>
            <a:off x="6062760" y="2141640"/>
            <a:ext cx="3081240" cy="32256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8"/>
          <p:cNvSpPr/>
          <p:nvPr/>
        </p:nvSpPr>
        <p:spPr>
          <a:xfrm>
            <a:off x="263520" y="1533600"/>
            <a:ext cx="57610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опографски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0" i="1" lang="sr-Latn-RS" sz="2000" spc="-1" strike="noStrike">
                <a:solidFill>
                  <a:srgbClr val="000000"/>
                </a:solidFill>
                <a:latin typeface="Palatino Linotype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xillaris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а три де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1)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pars mandibularis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очне гране: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auricularis profunda, a.tympanica anterior, a. meningea media, r.meningea accessorius et a.alveolaris inf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2)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pars pterygoidea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masseterica, a.temporalis anterior et a. temporalis profunda,rr.pterygoidei et a. bucc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3) 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Palatino Linotype"/>
              </a:rPr>
              <a:t>pars pterygopalatin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–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alveolaris superior posterior, a. infraorbitalis, a. palatina descedens, a. canalis pterygoidei,  a. pharyngea sup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6431-9EB8-40E4-9671-6C787805920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9" name="Picture 11" descr="image510"/>
          <p:cNvPicPr/>
          <p:nvPr/>
        </p:nvPicPr>
        <p:blipFill>
          <a:blip r:embed="rId1"/>
          <a:srcRect l="7975" t="-1805" r="7351" b="0"/>
          <a:stretch/>
        </p:blipFill>
        <p:spPr>
          <a:xfrm>
            <a:off x="6062760" y="2141640"/>
            <a:ext cx="3081240" cy="32256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7"/>
          <p:cNvSpPr/>
          <p:nvPr/>
        </p:nvSpPr>
        <p:spPr>
          <a:xfrm>
            <a:off x="212760" y="1641600"/>
            <a:ext cx="633888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alveolaris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ваја се од почетног дела стабла, иде измеђ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нутрашње стране рамуса и средишњег птер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оидног мишића и кроз мандибуларни о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ази у мандибуларни кан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Бочне гране:</a:t>
            </a:r>
            <a:r>
              <a:rPr b="1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mylohioidea, rr. diploici, rr.alveola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rr.dentales, rr.gingivales, aa. interalveo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вршне гране: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incisiva, a. mental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C1CE-19A2-46AE-8FEC-78658D82B57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A</a:t>
            </a: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463680" y="1641600"/>
            <a:ext cx="79740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alveolaris superior pos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ваја се у висини тубера максиле, иде напред и надо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чва се на више малих завршних грана које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кроз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ra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lveolaria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туберу улазе у вилични синус, где исхрањуј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његову слузокож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вршне гране: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rr. dentales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ст, горње бочне зуб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                         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rr. gingivales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сни, периост и образни миши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C822-5938-4D9C-A75A-81257CF65EB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501480" y="1778040"/>
            <a:ext cx="81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 Linotype"/>
              </a:rPr>
              <a:t>А. </a:t>
            </a:r>
            <a:r>
              <a:rPr b="1" i="1" lang="sr-Latn-CS" sz="2400" spc="-1" strike="noStrike">
                <a:solidFill>
                  <a:srgbClr val="000000"/>
                </a:solidFill>
                <a:latin typeface="Palatino Linotype"/>
              </a:rPr>
              <a:t>Infraorbit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601560" y="2397240"/>
            <a:ext cx="8204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аз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оз фисур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orbitali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inferior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чну дупљ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де иде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нфраорбиталним сулкусом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тим улаз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фраорбитални канал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чијем се предњем отвор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рана у завршне гран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 ње потич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rr.alveolares superiores anteriores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је се одвајају у канал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лазе у максиларни синус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исхрањују део слузокоже синуса, очњак и секутић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вршне гран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a.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infraorbitali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храњују доњи очни капак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жу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ткожно ткиво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мишиће у пределу образ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713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39A8-3CBB-4B34-AA87-83A6B324A88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Артериј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71600" y="1782720"/>
            <a:ext cx="77198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A.palatina descendens</a:t>
            </a:r>
            <a:r>
              <a:rPr b="0" lang="sr-Latn-CS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одвај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теригопалатинској јам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илази кроз велики непчани отвор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де се дели на завршне гран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a.palatinu major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aa.palatinae minore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A.palatina major</a:t>
            </a:r>
            <a:r>
              <a:rPr b="0" lang="sr-Latn-CS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лази кроз велики непчани отвор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де преко коштаног непц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 секутићне јам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де се анастомозира с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стоименом артеријом супротне стран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aa.nasales posteriores septi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лика непчана артериј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налази у делу непц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де алвеоларни наставак прелази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хоризонтални део тврдог непц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Артерије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palatinae minores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лазе кроз мале непчане отвор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 исхрањују меко непц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део непчаног крајника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292A-35AA-403C-93AD-47F776A0BA1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н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31920" y="2327400"/>
            <a:ext cx="530676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Вене лица и вилица углавном прате одговарајуће артерије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Сабирна заједничка вена лица је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sr-Latn-CS" sz="2800" spc="-1" strike="noStrike">
                <a:solidFill>
                  <a:srgbClr val="00ccff"/>
                </a:solidFill>
                <a:latin typeface="Palatino Linotype"/>
              </a:rPr>
              <a:t>v.facialis communis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Palatino Linotype"/>
              </a:rPr>
              <a:t>која се улива у</a:t>
            </a:r>
            <a:r>
              <a:rPr b="0" lang="sr-Latn-CS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sr-Latn-CS" sz="2800" spc="-1" strike="noStrike">
                <a:solidFill>
                  <a:srgbClr val="00ccff"/>
                </a:solidFill>
                <a:latin typeface="Palatino Linotype"/>
              </a:rPr>
              <a:t>v.jugularis interna</a:t>
            </a:r>
            <a:r>
              <a:rPr b="0" i="1" lang="sr-Latn-CS" sz="28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C:\Users\Zoran\Downloads\oralna hirurgija\slike\ve.bmp"/>
          <p:cNvPicPr/>
          <p:nvPr/>
        </p:nvPicPr>
        <p:blipFill>
          <a:blip r:embed="rId1"/>
          <a:stretch/>
        </p:blipFill>
        <p:spPr>
          <a:xfrm>
            <a:off x="5599080" y="2133720"/>
            <a:ext cx="326700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9" descr=""/>
          <p:cNvPicPr/>
          <p:nvPr/>
        </p:nvPicPr>
        <p:blipFill>
          <a:blip r:embed="rId1"/>
          <a:stretch/>
        </p:blipFill>
        <p:spPr>
          <a:xfrm>
            <a:off x="6029280" y="233532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225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5AF2-C2D3-4591-BD0E-E38B25B43C3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не лица и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488880" y="1728720"/>
            <a:ext cx="8217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77920" y="1595520"/>
            <a:ext cx="62053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Њене притоке су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ccff"/>
                </a:solidFill>
                <a:latin typeface="Palatino Linotype"/>
              </a:rPr>
              <a:t>V.facialis</a:t>
            </a:r>
            <a:r>
              <a:rPr b="0" i="1" lang="sr-Latn-CS" sz="2200" spc="-1" strike="noStrike">
                <a:solidFill>
                  <a:srgbClr val="000000"/>
                </a:solidFill>
                <a:latin typeface="Palatino Linotype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сабира крв предела чел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ока и нос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Она је пратиља артерије лиц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, a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почиње као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v.angularis.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Њене притоке су фронталне вене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вене доњег очног капк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вене горње и доње усне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подбрадна и подвилична вен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ccff"/>
                </a:solidFill>
                <a:latin typeface="Palatino Linotype"/>
              </a:rPr>
              <a:t>V.retromandibularis</a:t>
            </a:r>
            <a:r>
              <a:rPr b="0" i="1" lang="sr-Latn-CS" sz="2200" spc="-1" strike="noStrike">
                <a:solidFill>
                  <a:srgbClr val="000000"/>
                </a:solidFill>
                <a:latin typeface="Palatino Linotype"/>
              </a:rPr>
              <a:t> –</a:t>
            </a:r>
            <a:r>
              <a:rPr b="0" i="1" lang="sr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настаје у паротидној ложи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спајањем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200" spc="-1" strike="noStrike">
                <a:solidFill>
                  <a:srgbClr val="00ccff"/>
                </a:solidFill>
                <a:latin typeface="Palatino Linotype"/>
              </a:rPr>
              <a:t>v.temporalis superficialis</a:t>
            </a:r>
            <a:r>
              <a:rPr b="0" i="1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CS" sz="2200" spc="-1" strike="noStrike">
                <a:solidFill>
                  <a:srgbClr val="000000"/>
                </a:solidFill>
                <a:latin typeface="Palatino Linotype"/>
              </a:rPr>
              <a:t>и</a:t>
            </a:r>
            <a:r>
              <a:rPr b="0" i="1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200" spc="-1" strike="noStrike">
                <a:solidFill>
                  <a:srgbClr val="00ccff"/>
                </a:solidFill>
                <a:latin typeface="Palatino Linotype"/>
              </a:rPr>
              <a:t>v.maxillaris interne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која представља главни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изводник крви из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200" spc="-1" strike="noStrike" u="sng">
                <a:solidFill>
                  <a:srgbClr val="00ccff"/>
                </a:solidFill>
                <a:uFillTx/>
                <a:latin typeface="Palatino Linotype"/>
              </a:rPr>
              <a:t>plexusa pterygoideusa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a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 који је од посебног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клиничког значаја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j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ер комуницира са горњим</a:t>
            </a:r>
            <a:r>
              <a:rPr b="0" lang="sr-Latn-CS" sz="2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Palatino Linotype"/>
              </a:rPr>
              <a:t>сагиталним и кавернозним синусом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E686-1DE8-4D7E-B03A-4D63759E293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476280" y="1728720"/>
            <a:ext cx="7215120" cy="45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ERVUS TRIGEMINUS</a:t>
            </a:r>
            <a:r>
              <a:rPr b="1" i="1" lang="sr-CS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Његов већи сензитивни део инервиш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жу лица и извесних делова лоб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пољашњу и средње опну очне јабуч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лузокожу носа и параназалних син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лузокожу усне шупљ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е горње и доњ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ње две трећине је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имично спољашњи ушни канал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о бубне оп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5460840" y="2087640"/>
            <a:ext cx="368316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E83C-9835-4F93-A087-50C2BBE6CE3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501480" y="1854360"/>
            <a:ext cx="82170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ТЕЛО ГОРЊЕ ВИ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4 Стране: предња, задња, горња (орбитална) и унутрашња ст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1843200" y="3260880"/>
            <a:ext cx="5610240" cy="27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8CFD-09ED-419A-A9A7-39B370F020A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525600" y="1941480"/>
            <a:ext cx="809280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Његов мањи моторни део инервиш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m. tempor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m. mass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m. pterygoideus med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m. pterygoideus later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600px-Mandibularis.gif"/>
          <p:cNvPicPr/>
          <p:nvPr/>
        </p:nvPicPr>
        <p:blipFill>
          <a:blip r:embed="rId1"/>
          <a:stretch/>
        </p:blipFill>
        <p:spPr>
          <a:xfrm>
            <a:off x="4394160" y="2313000"/>
            <a:ext cx="4032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2A4C-DA1D-49AF-A859-4BE7F393FC3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7" name="Picture 7" descr="imagesCA3KJF6I.jpg"/>
          <p:cNvPicPr/>
          <p:nvPr/>
        </p:nvPicPr>
        <p:blipFill>
          <a:blip r:embed="rId1"/>
          <a:stretch/>
        </p:blipFill>
        <p:spPr>
          <a:xfrm>
            <a:off x="5349960" y="1459080"/>
            <a:ext cx="3074760" cy="39956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8"/>
          <p:cNvSpPr/>
          <p:nvPr/>
        </p:nvSpPr>
        <p:spPr>
          <a:xfrm>
            <a:off x="538200" y="1954080"/>
            <a:ext cx="477360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предње испупчене ивице Гасеровог ганглиона настају три сензитивне завршне гра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ophtalmi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axil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andibu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7E63-10F5-4605-A9EA-24928C5F805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501480" y="1778040"/>
            <a:ext cx="815364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Palatino Linotype"/>
              </a:rPr>
              <a:t>N. Ophtalm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fron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lacrim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nasocili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600px-Augennerven.jpg"/>
          <p:cNvPicPr/>
          <p:nvPr/>
        </p:nvPicPr>
        <p:blipFill>
          <a:blip r:embed="rId1"/>
          <a:stretch/>
        </p:blipFill>
        <p:spPr>
          <a:xfrm>
            <a:off x="3718080" y="1979640"/>
            <a:ext cx="470520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8" descr=""/>
          <p:cNvPicPr/>
          <p:nvPr/>
        </p:nvPicPr>
        <p:blipFill>
          <a:blip r:embed="rId1"/>
          <a:stretch/>
        </p:blipFill>
        <p:spPr>
          <a:xfrm>
            <a:off x="5673600" y="2646360"/>
            <a:ext cx="3470400" cy="3522600"/>
          </a:xfrm>
          <a:prstGeom prst="rect">
            <a:avLst/>
          </a:prstGeom>
          <a:ln w="0">
            <a:noFill/>
          </a:ln>
        </p:spPr>
      </p:pic>
      <p:sp>
        <p:nvSpPr>
          <p:cNvPr id="256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839E-6901-41D6-A011-E37367A2EDF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476280" y="1652760"/>
            <a:ext cx="643716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. MAXIL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руга завршна грана, најслабијег промера и искључиво сензитивног к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средњој лобањској јами одваја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се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eningeus medius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ји инервише околни део тврде мождане оп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птеригопалатинској јами одвајају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 zygomati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n. alveolares superiores pos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 infraorbit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"/>
          <p:cNvPicPr/>
          <p:nvPr/>
        </p:nvPicPr>
        <p:blipFill>
          <a:blip r:embed="rId1"/>
          <a:srcRect l="0" t="0" r="0" b="22087"/>
          <a:stretch/>
        </p:blipFill>
        <p:spPr>
          <a:xfrm>
            <a:off x="2249640" y="3929040"/>
            <a:ext cx="390204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E0F4-3C77-4D27-AF6B-3F1172C15A4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133920" y="1547640"/>
            <a:ext cx="945108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.n. alveolares superiores pos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вајају се у инфратемпоралној јами као заједничко стабло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о појединачно стаб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горњу вилицу улазе кроз мале коштане о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и живци по изласку из каналића се спајају са средњим и предњ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убним гранчицама чинећи </a:t>
            </a: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горњи зубни сплет (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plexus dentalis superor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5345280" y="2368440"/>
            <a:ext cx="3798720" cy="3103560"/>
          </a:xfrm>
          <a:prstGeom prst="rect">
            <a:avLst/>
          </a:prstGeom>
          <a:ln w="0">
            <a:noFill/>
          </a:ln>
        </p:spPr>
      </p:pic>
      <p:sp>
        <p:nvSpPr>
          <p:cNvPr id="268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8F15-7832-4187-AB5C-7B080B8D651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15800" y="1657440"/>
            <a:ext cx="55278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. infraorbit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ле прола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 кроз доњу очну пуккотину, живац је на поду орбите, у истоименом жлебу, а затим улази у истоимени канал, који се завршава на предњој страни тела максиле инфраорбиталним отвором (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foramen infraorbitale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ликом проласка кроз канал даје бочне гра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. alveolaris superior me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r. alveolares superiores anteriores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( 5-8 mm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 инфраорбиталног     отв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BAEC-EF45-4267-9D7B-8EABBAC0837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525600" y="1890720"/>
            <a:ext cx="810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дње горње зубне гране дају инервацију за: кутњаке, одговарајући део слузокоже и 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редња горња зубна грана даје инервацију за: предкутњаке, одговарајући део кости и слузоко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ње горње зубне гране дају инервацију за: секутиће, очњак, одговарајући део кости и слузоко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горњег зубног сплета издвајају се гране за инервацију околних структура: </a:t>
            </a:r>
            <a:r>
              <a:rPr b="1" i="1" lang="sr-Latn-CS" sz="2000" spc="-1" strike="noStrike">
                <a:solidFill>
                  <a:srgbClr val="000000"/>
                </a:solidFill>
                <a:latin typeface="Palatino Linotype"/>
              </a:rPr>
              <a:t>rr.dentales, rr.alveolares,rr. gingivale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678D-EF2F-4DA6-9C95-08EEFE23FAB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01480" y="1890720"/>
            <a:ext cx="815364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ВРШНЕ ГРАНЕ ИНФАОРБИТАЛНОГ НЕР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r. palpebrales inf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r. nasales exter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r. nasales inter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rr. labiale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n-infraorbitalis-ansicht-von-vorn.jpg"/>
          <p:cNvPicPr/>
          <p:nvPr/>
        </p:nvPicPr>
        <p:blipFill>
          <a:blip r:embed="rId1"/>
          <a:stretch/>
        </p:blipFill>
        <p:spPr>
          <a:xfrm>
            <a:off x="4253040" y="2320920"/>
            <a:ext cx="389412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4FCB-3527-4E31-B9BF-9E5F0CE1825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8" name="Picture 8" descr="imagesCA7TGOQV.jpg"/>
          <p:cNvPicPr/>
          <p:nvPr/>
        </p:nvPicPr>
        <p:blipFill>
          <a:blip r:embed="rId1"/>
          <a:stretch/>
        </p:blipFill>
        <p:spPr>
          <a:xfrm>
            <a:off x="5543640" y="2367000"/>
            <a:ext cx="3600360" cy="2700360"/>
          </a:xfrm>
          <a:prstGeom prst="rect">
            <a:avLst/>
          </a:prstGeom>
          <a:ln w="0">
            <a:noFill/>
          </a:ln>
        </p:spPr>
      </p:pic>
      <p:cxnSp>
        <p:nvCxnSpPr>
          <p:cNvPr id="289" name="Straight Arrow Connector 12"/>
          <p:cNvCxnSpPr/>
          <p:nvPr/>
        </p:nvCxnSpPr>
        <p:spPr>
          <a:xfrm flipH="1">
            <a:off x="2204640" y="3130920"/>
            <a:ext cx="713520" cy="677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Elbow Connector 18"/>
          <p:cNvCxnSpPr/>
          <p:nvPr/>
        </p:nvCxnSpPr>
        <p:spPr>
          <a:xfrm flipH="1" rot="16200000">
            <a:off x="-684360" y="3965040"/>
            <a:ext cx="1929240" cy="240480"/>
          </a:xfrm>
          <a:prstGeom prst="bentConnector3">
            <a:avLst>
              <a:gd name="adj1" fmla="val 60377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1" name="Rectangle 9"/>
          <p:cNvSpPr/>
          <p:nvPr/>
        </p:nvSpPr>
        <p:spPr>
          <a:xfrm>
            <a:off x="360360" y="1494000"/>
            <a:ext cx="4572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N. SPHENOPALAT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ле кратког пута дају завршне гране: 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rr. orbitales,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</a:rPr>
              <a:t>rr.nasales posteriore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sr-Latn-CS" sz="2000" spc="-1" strike="noStrike">
                <a:solidFill>
                  <a:srgbClr val="ff0000"/>
                </a:solidFill>
                <a:latin typeface="Palatino Linotype"/>
              </a:rPr>
              <a:t>nn.palat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n. nasopalatinus Scarp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ервише део слузокоже између очња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Palatino Linotype"/>
              </a:rPr>
              <a:t>n. palatinus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ервише слузокожу тврдог непца и гингиву с палатиналне стране горњих бочних зуб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6480" y="6437160"/>
            <a:ext cx="39830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B602-C888-49C3-940D-ED7AB013936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Box 8"/>
          <p:cNvSpPr/>
          <p:nvPr/>
        </p:nvSpPr>
        <p:spPr>
          <a:xfrm>
            <a:off x="258840" y="1270080"/>
            <a:ext cx="511632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Palatino Linotype"/>
              </a:rPr>
              <a:t>NERVUS MANDIBU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осредно по изласку из ганглиона, мандибуларни живац се спаја са моторним кореном тригеминалног живца. На тај начин, овај живац представља мешовити жива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нзитивним делом инервише: средњи део тврде мождане опне, кожу доње усне, браде, доњег дела образа, слепочног предела,предњег дела ушне шкољке,слузокожу образа,пода усне шупљине, предње две трећине језика,ко и све зубе, кост и гингиву једне половине ви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V3+=+N.+mandibularis.jpg"/>
          <p:cNvPicPr/>
          <p:nvPr/>
        </p:nvPicPr>
        <p:blipFill>
          <a:blip r:embed="rId1"/>
          <a:stretch/>
        </p:blipFill>
        <p:spPr>
          <a:xfrm>
            <a:off x="5084640" y="2008080"/>
            <a:ext cx="3989520" cy="29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rcRect l="52848" t="0" r="0" b="22409"/>
          <a:stretch/>
        </p:blipFill>
        <p:spPr>
          <a:xfrm>
            <a:off x="5437080" y="2479680"/>
            <a:ext cx="3706920" cy="2979720"/>
          </a:xfrm>
          <a:prstGeom prst="rect">
            <a:avLst/>
          </a:prstGeom>
          <a:ln w="0">
            <a:noFill/>
          </a:ln>
        </p:spPr>
      </p:pic>
      <p:sp>
        <p:nvSpPr>
          <p:cNvPr id="74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39E6-60FB-4F36-A302-7A0B075C869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425520" y="1603440"/>
            <a:ext cx="568800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УНУТРАШЊА СТРАНА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facies nasali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пољашњи коштани зид носне шупљ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вом зиду се отвара горњовилична шупљина преко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hiatusa semilunarisa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који се налази у нивоу средњег носног хо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 овој страни се налази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sulcus palatinus major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који са истоименим жлебом на непчаној кости гради велики непчани канал кроз који пролазе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n. palatinus major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ји исхрањују и инервишу меко и тврдо неп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626C-93F0-47D8-B62E-5008FBFF3A4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Box 10"/>
          <p:cNvSpPr/>
          <p:nvPr/>
        </p:nvSpPr>
        <p:spPr>
          <a:xfrm>
            <a:off x="476280" y="1481040"/>
            <a:ext cx="8166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торни  делом инервише: мастикаторне мишиће и миши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к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ји ембриолошки припадају првом шкржном лу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 свог почетка овај живац силази по дну лобањске јаме, коју напушта кроз овални отв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што прође кроз овај отвор живац улази у инфратемпоралну јаму и , после кратког пута од 4-5мм, даје своје две завршне г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предњу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- задњу завршну гран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1"/>
          <p:cNvSpPr/>
          <p:nvPr/>
        </p:nvSpPr>
        <p:spPr>
          <a:xfrm>
            <a:off x="225360" y="4178160"/>
            <a:ext cx="3181320" cy="952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8" descr="Branches of Mandibular nerve.png"/>
          <p:cNvPicPr/>
          <p:nvPr/>
        </p:nvPicPr>
        <p:blipFill>
          <a:blip r:embed="rId1"/>
          <a:stretch/>
        </p:blipFill>
        <p:spPr>
          <a:xfrm>
            <a:off x="4724280" y="3679920"/>
            <a:ext cx="293688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680F-CDDC-4847-8B74-BD89CB9DCD3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525600" y="1428840"/>
            <a:ext cx="785484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редња завршна г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ежно моторна и одмах у инфратемпоралној јами даје већи број грана: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temporalis profundus anterior,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buccalis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temporalis profundus medius, n.temporalis profundus posterior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asseteric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Palatino Linotype"/>
              </a:rPr>
              <a:t>N. Bucc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илази испред спољашњег птеригоидног мишића, прелази преко предње ивице рамуса у висини гризних површина горњих зуба при полуотвореним устима, и долази на спољашњу страну образног мишића. Ту живац даје кожне гране за инервацију дела коже образа и слузокожне гране које инервишу слузокожу усне дупље у образном пределу.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3DBD-2CD2-4C03-AF0C-32EDA29B6AC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476280" y="1716120"/>
            <a:ext cx="825480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Задња завршна г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ежно сензитивна и већег промера од предње завршне г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дња завршна грана даје: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auriculotemporalis, </a:t>
            </a: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 alveolaris inferi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0000"/>
                </a:solidFill>
                <a:latin typeface="Palatino Linotype"/>
              </a:rPr>
              <a:t>n. ligualis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и мишићне гране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pterigoideus medialis, n. tensor veli palatini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tensor tympa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n-mandibularis.jpg"/>
          <p:cNvPicPr/>
          <p:nvPr/>
        </p:nvPicPr>
        <p:blipFill>
          <a:blip r:embed="rId1"/>
          <a:stretch/>
        </p:blipFill>
        <p:spPr>
          <a:xfrm>
            <a:off x="3255840" y="3511440"/>
            <a:ext cx="273204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340E-B6CA-47A6-BABF-E5688684D08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514440" y="1716120"/>
            <a:ext cx="73641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Palatino Linotype"/>
              </a:rPr>
              <a:t>N. Alveolaris inf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шовита грана која својим највећим сензитивним делом инервише: доње зубе, део гингиве, кожу браде и доњу ус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торним делом инервише: милохиоидни мишић и предњи трбух дигастричног мишић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7351-3606-4437-BF5F-147CE4387FC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5" name="Picture 7" descr="imagesCAMPA7GK.jpg"/>
          <p:cNvPicPr/>
          <p:nvPr/>
        </p:nvPicPr>
        <p:blipFill>
          <a:blip r:embed="rId1"/>
          <a:srcRect l="-1591" t="7122" r="0" b="0"/>
          <a:stretch/>
        </p:blipFill>
        <p:spPr>
          <a:xfrm>
            <a:off x="2241720" y="1565280"/>
            <a:ext cx="4360680" cy="461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7CC4-84FF-42FE-85E4-923B2E613C7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550800" y="1565280"/>
            <a:ext cx="7778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авршне гране доњег зубног живца су: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entalis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incisiv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mentalis -  rr.labiales inferiores, rr.mentales, rr.gingiv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n. incisivus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-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аје бочне гране за инервацију очњака и секут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9" descr="imagesCA2P6X2K.jpg"/>
          <p:cNvPicPr/>
          <p:nvPr/>
        </p:nvPicPr>
        <p:blipFill>
          <a:blip r:embed="rId1"/>
          <a:stretch/>
        </p:blipFill>
        <p:spPr>
          <a:xfrm>
            <a:off x="2174760" y="2917800"/>
            <a:ext cx="4660920" cy="34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08B8-A8B5-4716-95FC-F6A43BA62B4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Box 7"/>
          <p:cNvSpPr/>
          <p:nvPr/>
        </p:nvSpPr>
        <p:spPr>
          <a:xfrm>
            <a:off x="538200" y="1828800"/>
            <a:ext cx="76532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Palatino Linotype"/>
              </a:rPr>
              <a:t>N. Lingu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грана мандибуларног живца која је искључиво сензитивна до  анастомозе са фацијалним живцем (</a:t>
            </a:r>
            <a:r>
              <a:rPr b="0" i="1" lang="sr-Latn-CS" sz="2000" spc="-1" strike="noStrike">
                <a:solidFill>
                  <a:srgbClr val="000000"/>
                </a:solidFill>
                <a:latin typeface="Palatino Linotype"/>
              </a:rPr>
              <a:t>chorda tympani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нзитивним влакнима инервише: предње две трећине јези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лузокожу пода усне дупље, слузокожу алвеоларног гребена са језичне стране од медијалне линије до предела доњег умња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CA72-2714-46D1-90E1-424C2B820C2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2198520" y="1488960"/>
            <a:ext cx="4243680" cy="489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и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3" name="Content Placeholder 6" descr="imagesCAJYCMTY.jpg"/>
          <p:cNvPicPr/>
          <p:nvPr/>
        </p:nvPicPr>
        <p:blipFill>
          <a:blip r:embed="rId1"/>
          <a:stretch/>
        </p:blipFill>
        <p:spPr>
          <a:xfrm>
            <a:off x="536400" y="2354400"/>
            <a:ext cx="3840480" cy="2879640"/>
          </a:xfrm>
          <a:prstGeom prst="rect">
            <a:avLst/>
          </a:prstGeom>
          <a:ln w="0">
            <a:noFill/>
          </a:ln>
        </p:spPr>
      </p:pic>
      <p:sp>
        <p:nvSpPr>
          <p:cNvPr id="344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4AD5-5803-4109-858A-C3AB47E2F40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imagesCADDV1AB.jpg"/>
          <p:cNvPicPr/>
          <p:nvPr/>
        </p:nvPicPr>
        <p:blipFill>
          <a:blip r:embed="rId2"/>
          <a:stretch/>
        </p:blipFill>
        <p:spPr>
          <a:xfrm>
            <a:off x="4943520" y="2336760"/>
            <a:ext cx="36511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гор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1763-6F87-499E-810C-7E8053A5A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06520" y="162072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3405240" y="1603440"/>
            <a:ext cx="2666880" cy="2181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6137280" y="1581120"/>
            <a:ext cx="2495520" cy="2143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"/>
          <p:cNvPicPr/>
          <p:nvPr/>
        </p:nvPicPr>
        <p:blipFill>
          <a:blip r:embed="rId4"/>
          <a:stretch/>
        </p:blipFill>
        <p:spPr>
          <a:xfrm>
            <a:off x="1774800" y="3946680"/>
            <a:ext cx="2629080" cy="2371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5"/>
          <a:stretch/>
        </p:blipFill>
        <p:spPr>
          <a:xfrm>
            <a:off x="4786200" y="3875040"/>
            <a:ext cx="259092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"/>
          <p:cNvPicPr/>
          <p:nvPr/>
        </p:nvPicPr>
        <p:blipFill>
          <a:blip r:embed="rId1"/>
          <a:srcRect l="0" t="0" r="47650" b="20258"/>
          <a:stretch/>
        </p:blipFill>
        <p:spPr>
          <a:xfrm>
            <a:off x="5560920" y="2513160"/>
            <a:ext cx="4444920" cy="3305160"/>
          </a:xfrm>
          <a:prstGeom prst="rect">
            <a:avLst/>
          </a:prstGeom>
          <a:ln w="0">
            <a:noFill/>
          </a:ln>
        </p:spPr>
      </p:pic>
      <p:sp>
        <p:nvSpPr>
          <p:cNvPr id="80" name="Date Placeholder 3"/>
          <p:cNvSpPr/>
          <p:nvPr/>
        </p:nvSpPr>
        <p:spPr>
          <a:xfrm>
            <a:off x="0" y="6424560"/>
            <a:ext cx="376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3607-FB83-4163-80B5-91DFC8080F4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88880" y="1728720"/>
            <a:ext cx="74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ПРЕДЊИ ЗИД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facies anterior seu infraorbitali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476280" y="2620800"/>
            <a:ext cx="6099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вршина је благо конкавна и прекривена меким деловима образа који чине средњу трећину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ssa canina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над коренова премолара и очња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ramen infraorbitale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Инервација доње вилиц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0" y="6424560"/>
            <a:ext cx="3935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67D1-5A11-47C5-A16C-200C4BF7D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"/>
          <a:stretch/>
        </p:blipFill>
        <p:spPr>
          <a:xfrm>
            <a:off x="1198440" y="1488960"/>
            <a:ext cx="2590920" cy="2495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"/>
          <p:cNvPicPr/>
          <p:nvPr/>
        </p:nvPicPr>
        <p:blipFill>
          <a:blip r:embed="rId2"/>
          <a:stretch/>
        </p:blipFill>
        <p:spPr>
          <a:xfrm>
            <a:off x="4968720" y="1373040"/>
            <a:ext cx="2752920" cy="24768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"/>
          <p:cNvPicPr/>
          <p:nvPr/>
        </p:nvPicPr>
        <p:blipFill>
          <a:blip r:embed="rId3"/>
          <a:stretch/>
        </p:blipFill>
        <p:spPr>
          <a:xfrm>
            <a:off x="3013200" y="3968640"/>
            <a:ext cx="2895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7EDB-D063-43CA-92AF-EA4265412F7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Лимфне жлезд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8" name="Picture 6" descr="image602"/>
          <p:cNvPicPr/>
          <p:nvPr/>
        </p:nvPicPr>
        <p:blipFill>
          <a:blip r:embed="rId1"/>
          <a:srcRect l="0" t="0" r="0" b="6826"/>
          <a:stretch/>
        </p:blipFill>
        <p:spPr>
          <a:xfrm>
            <a:off x="4919760" y="1676520"/>
            <a:ext cx="4224240" cy="45432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8"/>
          <p:cNvSpPr/>
          <p:nvPr/>
        </p:nvSpPr>
        <p:spPr>
          <a:xfrm>
            <a:off x="192240" y="1892160"/>
            <a:ext cx="4572000" cy="3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ЛИМФНЕ ЖЛЕЗДЕ ГЛАВЕ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тиљач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дње врат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Задње у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редње уш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аротид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двиличн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-6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ње и задње</a:t>
            </a: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одбрад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Лимфне жлезде 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ЛИМФНЕ ЖЛЕЗДЕ ВР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8C84-97E7-43E5-82F0-FA6C628F38C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88880" y="1690560"/>
            <a:ext cx="7074000" cy="35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ЗАДЊИ ЗИД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facies posterior seu infratempor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crista infrazygo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foramina alveo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Задњи зид максиле, својим горњим издубљен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делом учествује у изградњи предњег з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Palatino Linotype"/>
              </a:rPr>
              <a:t>инфраорбиталне ја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rcRect l="17019" t="2029" r="15470" b="3442"/>
          <a:stretch/>
        </p:blipFill>
        <p:spPr>
          <a:xfrm>
            <a:off x="6307200" y="2104920"/>
            <a:ext cx="261144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0" y="6424560"/>
            <a:ext cx="37623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61E9-9B47-47E6-9E7E-D82F7702B43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38200" y="1766880"/>
            <a:ext cx="81295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Непчани наставак горње вил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ssa incisiva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око 10 – 15 мм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foramen incisiv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apilla inci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canalis incisiv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113520" y="430848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foramen palatinum maj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11"/>
          <p:cNvCxnSpPr/>
          <p:nvPr/>
        </p:nvCxnSpPr>
        <p:spPr>
          <a:xfrm flipH="1">
            <a:off x="5096880" y="4883760"/>
            <a:ext cx="1665720" cy="802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99" name="Picture 10" descr=""/>
          <p:cNvPicPr/>
          <p:nvPr/>
        </p:nvPicPr>
        <p:blipFill>
          <a:blip r:embed="rId1"/>
          <a:stretch/>
        </p:blipFill>
        <p:spPr>
          <a:xfrm>
            <a:off x="2170080" y="4130640"/>
            <a:ext cx="3621240" cy="22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0" y="6424560"/>
            <a:ext cx="3787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37A2-4833-4EFC-BFE1-6862569840E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50720" y="1866960"/>
            <a:ext cx="83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АЛВЕОЛАРНИ НАСТАВАК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</a:rPr>
              <a:t>processus alveolari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rcRect l="10086" t="1406" r="12138" b="3801"/>
          <a:stretch/>
        </p:blipFill>
        <p:spPr>
          <a:xfrm>
            <a:off x="4121280" y="2417760"/>
            <a:ext cx="4867200" cy="2916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2254320" y="28684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alveoli dent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1803240" y="444672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septa interalveol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2"/>
          <p:cNvSpPr/>
          <p:nvPr/>
        </p:nvSpPr>
        <p:spPr>
          <a:xfrm flipH="1" flipV="1">
            <a:off x="2292120" y="3808080"/>
            <a:ext cx="3119400" cy="11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4"/>
          <p:cNvSpPr/>
          <p:nvPr/>
        </p:nvSpPr>
        <p:spPr>
          <a:xfrm flipH="1">
            <a:off x="2317680" y="3432240"/>
            <a:ext cx="326880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0" y="3544920"/>
            <a:ext cx="24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Palatino Linotype"/>
              </a:rPr>
              <a:t>septa interradicul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Остеологија вилиц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0" y="6424560"/>
            <a:ext cx="38401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098D-ABF9-40B7-97B7-EF8FE49E51D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97960" y="146520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Palatino Linotype"/>
              </a:rPr>
              <a:t>MANDIBULA</a:t>
            </a:r>
            <a:r>
              <a:rPr b="1" lang="en-US" sz="2400" spc="-1" strike="noStrike">
                <a:solidFill>
                  <a:srgbClr val="ff0000"/>
                </a:solidFill>
                <a:latin typeface="Palatino Linotype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Palatino Linotype"/>
              </a:rPr>
              <a:t>(ДОЊА ВИЛ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88960" y="2127240"/>
            <a:ext cx="8166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арна кост доњег, покретног дела лица састављена од тела и две гране, на чијим завршецима се налазе по два наставка са сваке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2327400" y="2979720"/>
            <a:ext cx="40035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5:55:43Z</dcterms:modified>
  <cp:revision>909</cp:revision>
  <dc:subject/>
  <dc:title>NAZIV PREDAVANJA</dc:title>
</cp:coreProperties>
</file>